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D565441-9ACE-4FC4-8EFF-973441B9B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B13BE7-7313-492D-823C-5B625DD51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58DE86-5107-455E-9ACE-F3128CE15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14F81EC-AA3B-4B70-A36C-5A48F3250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39726-512A-493D-8E46-251CFF8A7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62524-BAB3-4266-A722-8B865F83A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41A74-5B3E-4043-B5B1-A0C76CE05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64220-CFE4-4E61-86ED-1D4D791B6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19B1B-A42E-4B55-8F2B-7210BAC59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95989-0467-4CED-B6AC-2B025439E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91FAD-B8A9-4560-AC10-82ACC58F7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AA5615-987B-49F5-9AFD-8CA4EBAE8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02BF9-61FE-4D56-A395-18D07FEE2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3117B-3B09-4645-B21B-FE6C8D6A6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F5303-C4D0-4744-AC5B-B78FDC880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5F044-AB54-4D47-92B6-AC1BC7C89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6E971-4162-4787-9614-00A165FBE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6F9D65-0561-4FA8-BB51-7CF7A2AC7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2E4CF7-9157-4FEE-B8EA-D02C04D19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47CAEC-A756-4EDC-A924-F0DFBD4A8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697432-D59E-464B-9527-2C29AA201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4FA05B-351F-4761-A6FD-47ABC12BD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A6A4A6-7DC5-4E04-88F4-428043B31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CD8834-F08A-40B9-A8F0-7B613F771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5F8F-7A3E-45DF-AE18-25912C0DEEFA}"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28B2-8823-4C87-8985-5C786D25BD24}"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1" name=""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22" name="" descr=""/>
          <p:cNvPicPr/>
          <p:nvPr/>
        </p:nvPicPr>
        <p:blipFill>
          <a:blip r:embed="rId1"/>
          <a:stretch/>
        </p:blipFill>
        <p:spPr>
          <a:xfrm>
            <a:off x="539640" y="1700280"/>
            <a:ext cx="3652920" cy="3816360"/>
          </a:xfrm>
          <a:prstGeom prst="rect">
            <a:avLst/>
          </a:prstGeom>
          <a:ln w="0">
            <a:noFill/>
          </a:ln>
        </p:spPr>
      </p:pic>
      <p:pic>
        <p:nvPicPr>
          <p:cNvPr id="123" name="" descr=""/>
          <p:cNvPicPr/>
          <p:nvPr/>
        </p:nvPicPr>
        <p:blipFill>
          <a:blip r:embed="rId2"/>
          <a:stretch/>
        </p:blipFill>
        <p:spPr>
          <a:xfrm>
            <a:off x="4716360" y="2060640"/>
            <a:ext cx="3888000" cy="3371760"/>
          </a:xfrm>
          <a:prstGeom prst="rect">
            <a:avLst/>
          </a:prstGeom>
          <a:ln w="0">
            <a:noFill/>
          </a:ln>
        </p:spPr>
      </p:pic>
      <p:sp>
        <p:nvSpPr>
          <p:cNvPr id="124" name=""/>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Arial"/>
            </a:endParaRPr>
          </a:p>
        </p:txBody>
      </p:sp>
      <p:sp>
        <p:nvSpPr>
          <p:cNvPr id="125" name=""/>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0" name=""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33" name=""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05" name=""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08" name="" descr=""/>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anim calcmode="lin" valueType="num">
                                      <p:cBhvr additive="base">
                                        <p:cTn id="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1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objects have a force that attracts them towards each other. This is called </a:t>
            </a:r>
            <a:r>
              <a:rPr b="0" lang="en-US" sz="3200" spc="-1" strike="noStrike">
                <a:solidFill>
                  <a:srgbClr val="ff0000"/>
                </a:solidFill>
                <a:latin typeface="Comic Sans MS"/>
              </a:rPr>
              <a:t>gravity</a:t>
            </a:r>
            <a:r>
              <a:rPr b="0" lang="en-US"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18" name="PlaceHolder 2"/>
          <p:cNvSpPr>
            <a:spLocks noGrp="1"/>
          </p:cNvSpPr>
          <p:nvPr>
            <p:ph/>
          </p:nvPr>
        </p:nvSpPr>
        <p:spPr>
          <a:xfrm>
            <a:off x="468360" y="155736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9" name="" descr=""/>
          <p:cNvPicPr/>
          <p:nvPr/>
        </p:nvPicPr>
        <p:blipFill>
          <a:blip r:embed="rId1"/>
          <a:stretch/>
        </p:blipFill>
        <p:spPr>
          <a:xfrm>
            <a:off x="3244680" y="3938760"/>
            <a:ext cx="2652840" cy="2187360"/>
          </a:xfrm>
          <a:prstGeom prst="rect">
            <a:avLst/>
          </a:prstGeom>
          <a:ln w="0">
            <a:noFill/>
          </a:ln>
        </p:spPr>
      </p:pic>
      <p:sp>
        <p:nvSpPr>
          <p:cNvPr id="120" name=""/>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t>
            </a:r>
            <a:r>
              <a:rPr b="0" lang="en-US"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Brandon S. Griffin</cp:lastModifiedBy>
  <dcterms:modified xsi:type="dcterms:W3CDTF">2011-05-09T12:06:07Z</dcterms:modified>
  <cp:revision>6</cp:revision>
  <dc:subject/>
  <dc:title>Magnetic Field</dc:title>
</cp:coreProperties>
</file>